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DBF-1AA5-443D-B554-C367908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688-7BFA-4B1B-8818-C2772E9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555D0-DB77-4845-81CA-027C4A2B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A06E5-DFDD-4632-A41C-F979DA97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97E5A-AC51-4EBE-85F1-E138E13E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AE29A-BB6A-4EC8-82CC-682C500C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C4FE8-CB9C-4FC4-B070-29FFCD2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73108-259F-4AAE-B307-3FABF4C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F3C67-2299-4BB4-A9EC-812F8996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6D1B4-912A-4680-B648-5E446E3F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8B35E-DB44-431B-A19E-B328159E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48D-78C1-4F09-995D-31F3A291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DC7-CD4D-425E-9F16-9636C507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3837-5801-4A01-A63C-4B0B9E52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6FD8-451D-4C57-BE7D-D7ED4A61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0578-1E03-43F1-9123-4751BD0E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A588-E25D-4D33-B426-945E05E6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2603-6D35-4DB1-A453-4B3570CA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F15D-E1E3-4C6D-8E76-FB5CB5B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D7FF-A2F0-4267-956A-FD10C89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6CE-8CBD-473F-8741-822ABE72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05F0-005A-4743-BEAD-6C12DB26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B052-BCC8-4E54-9B5D-2D42A49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FDBE-B882-4F67-8780-FB180B8D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EE8C-1F98-4E87-8635-F0318AD6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FAEA-EF38-43B5-BFE3-00BF88C8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1159-E7CC-447A-A584-5980560F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C0C2-C68E-496A-8E1F-0249EFBA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FFAC-6D09-48AA-85F3-1F0BCE3C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55D5-F6D4-4A6F-A614-58A4FAFF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BA71-CBD3-43A4-9FFB-02066645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B2A-4220-4738-9C9F-7F84FBA6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7CDF-AC55-48D1-BF1A-8F6D7FC8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78B5-F0B2-44D5-9237-BC73127C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A76E-F0E6-445D-BAA9-7D4F7AA2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743C-1E02-4754-8DFE-7ACACBE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0689-4878-4D09-A37A-FAFE123A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6CB2-A2E8-4222-9961-9E3BE9B5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736D0-98A3-4A9E-88F0-3782F592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B5324-8914-49E4-A269-16D9367A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53C1-718C-461A-8938-3687D9F4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0649-603C-42FA-A154-699B5F56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DDA-32BC-40EF-AD91-7D95BE7A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0965-E6AD-47DE-8C62-E023EB8A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EF9D-A109-4919-88DC-9AC60664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F57B-DA53-47A3-959E-D073A0F8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A630-98DC-4ACB-A7F4-29994D1B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A67A4-667E-4F8A-BDDB-95B68887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518E-5194-4CA4-AA63-A0758190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09E2C-5220-4B2D-80E4-8580FB89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9631-E1B4-4151-9AD3-0617B8B6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57A11-2E5B-49A8-978F-5C8C74EB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ADE22-68A7-4664-8F99-88C526E7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2B0-308E-4C7A-BCB5-25C42B96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19EBB-ACC4-48EF-AE5F-B6E60361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E074D-E2EA-4668-AF48-BBC62A10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DC482-FEFF-44E7-9B5D-CE194E14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4875C-DF1B-42B2-AD72-4A7A90F8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C7AFF-E7A6-43BC-9C05-32F4BDC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20A32-38E3-41DF-A732-AD7BEFB1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98CA-4E01-4649-900A-85150609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37353-E90A-4862-8C47-8C4AA9EB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89B5-24F7-45DF-9377-83E58E1B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B8F8-FF68-45A0-9F14-9EE85CF7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2C5-86A4-4D49-8C3B-473A268E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7FBF-CD96-4151-AB89-BD6F64D6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AC891-2F74-476B-A7BB-88ABE560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6DDA5-D143-4184-9F39-D1A45A51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DF97A-A01B-4F8C-AEF4-7CCBC51C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4C8F3-60B4-4323-BBFB-53A15F5F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34C97-B99C-46DA-942B-E47C421D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6D337-CC0F-4D85-A2C6-C85F7721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B6DBA-20CE-41FA-BACF-9BA6776C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2DD7F-946C-45E6-8D9A-A7FC57A8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8EB6D-2932-4AE5-A601-7ABD032B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CAD-4DB2-4256-B9C6-D410D8B9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1FC5C-60E6-4D76-96A1-190471CE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01362-7923-4E9B-9102-F4750228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3F178-59B1-4790-9ED1-D48B6443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08CFF-A7FD-4B0C-9A47-D01CAAC7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9C731-92ED-4C34-B8F1-99A0BD48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C8140-ED0B-4716-B89D-E52840A7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ACD30-B01E-4CB0-909C-1D308D4A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A14DC-2C04-40A1-9A6A-AE8230BB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49F82-031F-4498-B01E-D4D5A308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2678D-CAFE-4A39-90FE-EB2FC8BA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BEC-4E38-403F-89D5-1DD1F028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FD025-0DAB-48E5-90D7-9FB0A82D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2FEFD-7DEE-4843-A78C-734E1C77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677D-F309-4012-8D0A-3F3FC56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A00B7-906D-4951-A629-B8D764F1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598D6-A003-4BF9-BEB0-88905F4C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F4FB6-7E91-4D52-85A2-FDCA4743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4B3C-71D8-4966-9735-411F78F2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7386F-C98B-4BF6-B48D-546AEF95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EF25B-1560-4560-9F85-CCF24A2E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272D4-2E33-4E6F-B6D2-FCDE3E13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17E-9C9F-4D65-8E74-B2202313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C6573-8EE9-4373-BB80-FC3742C0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F7CDC-ABEF-4CEE-AE5D-336BA64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1564F-68EA-4D14-B74E-387DA2B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B1C14-9F8F-486F-A3FF-1C731A9A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CDF39-17B6-4694-B37A-E29AA7C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0FD5D-2A9B-4A9E-AF46-246AE547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43043-461A-436C-921D-D6284AB7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796D4-167B-47EA-8DD9-213CE94B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9DE0A-F80E-4AA3-8288-185738AB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1FAF9-F14C-4F36-AA59-3347C7DD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Click to edit the title text format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EC35-EAA6-4619-B57C-D0204BD2C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97EB-4BDE-4860-8054-392B85A75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C1A4-B1A0-48FB-8761-93B520E04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997F-8FA7-42C7-A350-821030536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5818-353E-4A2E-81D2-ADFB24F6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B425-4ED7-4590-9259-B387FF92C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C59C-7788-40AB-AF07-ABB7E8C49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9E3-9805-4EC0-8F2E-B73DD6F5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ABFA-F279-481F-9FC8-26A0818EE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2.3: Linear Equation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Objective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basic terminology related to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 linear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inear equations symbol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inear equations graphically and numer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intermediate valu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problems involving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problem-solv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Vocabular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: a statement that two mathematical expressions ar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 find all values that would make the equation true (these are solutions, they satisfy the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equations: equations with the same solu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ion: an equation with no possibl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: a equation that is only solved by some values for th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Linear equation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equation in one variable that can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+b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Properties of equalit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property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, b, and c are real numbers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b the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c=b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property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, b, and c are real numbers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b the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=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Ways to solve linear equation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2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715000" y="3809880"/>
            <a:ext cx="2200320" cy="22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Intermediate value propert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ints on continuous function, then it is assumed that the points between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art of the range for this function, if the domain is between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715000" y="3809880"/>
            <a:ext cx="2200320" cy="22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Your assignment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18-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-3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2-98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8:17:18Z</dcterms:created>
  <dc:creator>nuhs</dc:creator>
  <dc:description/>
  <dc:language>en-US</dc:language>
  <cp:lastModifiedBy>nuhs</cp:lastModifiedBy>
  <dcterms:modified xsi:type="dcterms:W3CDTF">2008-01-17T21:13:33Z</dcterms:modified>
  <cp:revision>4</cp:revision>
  <dc:subject/>
  <dc:title>2.3: Linear Equations</dc:title>
</cp:coreProperties>
</file>